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81FB-5F22-4CF7-8FFC-F15D1CADF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7B36-4EB0-4DE8-A2BA-5A8CA8C2A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1B59-FCA7-463E-AF26-4F70B4AFE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585D-EF3B-4EE6-A1D5-AEDCCE186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2DCE-05FF-4FB3-A13C-34A70D99F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BB5C-6DCB-433A-8F67-AA9C064FB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D82C-8B05-4559-882B-3570201F2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9490-6F94-4193-9931-96B13876D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EE18-2B5E-42A5-946D-CD006E13F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03BC-0B54-457E-B71D-EB37E89B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13BA-BAD7-4919-B047-A53E1701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2C54-1198-4788-ADF6-643BD300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B086B-9FB2-4AAD-A144-5DB73192DB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4400" spc="-1" strike="noStrike">
                <a:solidFill>
                  <a:srgbClr val="000000"/>
                </a:solidFill>
                <a:latin typeface="Arial"/>
              </a:rPr>
              <a:t>My Personal Learning Profile by lau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0"/>
            <a:ext cx="76197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3200" spc="-1" strike="noStrike">
                <a:solidFill>
                  <a:srgbClr val="000000"/>
                </a:solidFill>
                <a:latin typeface="Arial"/>
              </a:rPr>
              <a:t>My learning style is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auditory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568960"/>
            <a:ext cx="41148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3600" spc="-1" strike="noStrike">
                <a:solidFill>
                  <a:srgbClr val="000000"/>
                </a:solidFill>
                <a:latin typeface="Arial"/>
              </a:rPr>
              <a:t>This means that I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learn best by hea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3200" spc="-1" strike="noStrike">
                <a:solidFill>
                  <a:srgbClr val="000000"/>
                </a:solidFill>
                <a:latin typeface="Arial"/>
              </a:rPr>
              <a:t>My learning technique is  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 abstr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15:40:10Z</dcterms:created>
  <dc:creator>dharan albuoy</dc:creator>
  <dc:description/>
  <dc:language>en-US</dc:language>
  <cp:lastModifiedBy>dharan albuoy</cp:lastModifiedBy>
  <dcterms:modified xsi:type="dcterms:W3CDTF">2010-11-03T15:56:32Z</dcterms:modified>
  <cp:revision>2</cp:revision>
  <dc:subject/>
  <dc:title>Slide 1</dc:title>
</cp:coreProperties>
</file>